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1E0-1A6F-4D37-84A9-7CB8C1DC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663-1CD1-4CAB-B0F4-0BA4763E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3AE-8DF1-4F8F-AC13-3FFF992A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C47-955D-4E28-A178-698218D9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B33-FE60-46BE-8C05-F97553A6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334-DAF1-4BDE-A238-36AFDF60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D02-3A75-4E14-B167-1EA4F23A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43C-1F4B-4442-8AB5-73D1A83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455-4442-4DA0-A7DB-515372B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762-6CC0-4603-AED9-392045E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24B-8BBA-48F8-B74A-C5453E5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1AA-C0CF-4571-8DB4-7EAC947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F5C6-F369-472A-90C6-61B8BEC1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 and Clon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2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vs Deep Cop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py constructor and assignment operator per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l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of data from one objec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very bad for objects that use pointer data members with dynamic memory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write your own copy constructor and assignment operator that per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Cop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m_pData = new char[100]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delete [] m_pData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m_p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c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 =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92320" y="2438280"/>
            <a:ext cx="4948920" cy="2822040"/>
            <a:chOff x="3892320" y="2438280"/>
            <a:chExt cx="4948920" cy="2822040"/>
          </a:xfrm>
        </p:grpSpPr>
        <p:sp>
          <p:nvSpPr>
            <p:cNvPr id="66" name=""/>
            <p:cNvSpPr/>
            <p:nvPr/>
          </p:nvSpPr>
          <p:spPr>
            <a:xfrm>
              <a:off x="6484320" y="3733920"/>
              <a:ext cx="1518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ch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12560" y="2438280"/>
              <a:ext cx="17564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: m_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92320" y="4114800"/>
              <a:ext cx="1841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: m_ 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6040" y="4800600"/>
              <a:ext cx="1825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: m_ 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3"/>
              <a:endCxn id="66" idx="1"/>
            </p:cNvCxnSpPr>
            <p:nvPr/>
          </p:nvCxnSpPr>
          <p:spPr>
            <a:xfrm flipV="1">
              <a:off x="5740560" y="3966840"/>
              <a:ext cx="7372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9" idx="0"/>
              <a:endCxn id="66" idx="2"/>
            </p:cNvCxnSpPr>
            <p:nvPr/>
          </p:nvCxnSpPr>
          <p:spPr>
            <a:xfrm flipH="1" flipV="1">
              <a:off x="7243200" y="4199760"/>
              <a:ext cx="68652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7" idx="2"/>
              <a:endCxn id="66" idx="0"/>
            </p:cNvCxnSpPr>
            <p:nvPr/>
          </p:nvCxnSpPr>
          <p:spPr>
            <a:xfrm flipH="1">
              <a:off x="7243560" y="2905200"/>
              <a:ext cx="347760" cy="8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Cop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const Foo&amp; rhs) //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Data = new cha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cpy(m_pData, rhs.m_pData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&amp; operator=(const Foo &amp;rhs) //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his != &amp;rhs) // Make sure it's not the sam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Data = new cha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cpy(m_pData, rhs.m_pData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*this; // Return value pointed to by 'th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c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 =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280" y="609588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73520" y="4800600"/>
            <a:ext cx="175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_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520" y="4800600"/>
            <a:ext cx="1841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_ 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5840" y="4800600"/>
            <a:ext cx="1825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m_ 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9" idx="2"/>
            <a:endCxn id="82" idx="0"/>
          </p:cNvCxnSpPr>
          <p:nvPr/>
        </p:nvCxnSpPr>
        <p:spPr>
          <a:xfrm>
            <a:off x="4127400" y="5266800"/>
            <a:ext cx="576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2"/>
            <a:endCxn id="84" idx="0"/>
          </p:cNvCxnSpPr>
          <p:nvPr/>
        </p:nvCxnSpPr>
        <p:spPr>
          <a:xfrm>
            <a:off x="6329160" y="5267160"/>
            <a:ext cx="533880" cy="8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8" idx="2"/>
            <a:endCxn id="77" idx="0"/>
          </p:cNvCxnSpPr>
          <p:nvPr/>
        </p:nvCxnSpPr>
        <p:spPr>
          <a:xfrm flipH="1">
            <a:off x="1604520" y="5267160"/>
            <a:ext cx="3484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372840" y="613872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03080" y="614988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tatic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ariables are essentially global variables with local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variable declared in a function will retain its value between calls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Variab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Fo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t value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Value: %d\n”, 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514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tatic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gular global variable is said to have “external linkage” in that the variable can be used across object file (.obj) bound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lobal static variable is said to have “internal linkage” in that a separate copy of the variable will be made for each objec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ata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gular data member is created every time a object of its class is created and exists only within tha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exists even before any object of its class is created and is shared between all instances of tha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ata Memb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++m_sVa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--m_sVa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m_sVar; // Public static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ust initialize static variables outside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oo::m_sVa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isplayStatic(char label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s: %d\n", label, Foo::m_sV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B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Open up a stack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Open another stack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reate 10 Foo instance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reate 10 Foo instances on the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(memory leak!!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* pFoo = new Fo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H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038480"/>
            <a:ext cx="22100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 Clas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ways to make a copy of another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y 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 // b’s copy constructor will be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 = a; // b’s constructor will be called 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y b’s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6:39:58Z</dcterms:created>
  <dc:creator>Antonio Maiorano</dc:creator>
  <dc:description/>
  <dc:language>en-US</dc:language>
  <cp:lastModifiedBy>Tony</cp:lastModifiedBy>
  <dcterms:modified xsi:type="dcterms:W3CDTF">2003-08-23T18:09:35Z</dcterms:modified>
  <cp:revision>29</cp:revision>
  <dc:subject/>
  <dc:title>C/C++ Tutorial</dc:title>
</cp:coreProperties>
</file>